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C17-BBA0-4AB5-8ABF-4BD68CCE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061-A769-4595-9902-9BD5D54F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88E-9A77-4D98-B2A2-BB53579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774-3CB3-41E4-9589-55D307F9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C6A7-D43F-44DD-990F-E73BCEB5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2B11-D961-4EF4-B75E-41C87F1C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166C-DA29-4C82-B578-556CE8CF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929F-F425-4788-B8AC-1FECC28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86B-1873-452C-8EBB-19D6B66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58C-004E-48D4-81F3-0C2BC4C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703E-5A22-4B5F-BDB5-2EC29A6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E7A-2A34-4D74-A1F3-4B5C235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3A98-728F-432D-A5A7-905ADB3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72F4-7199-4B66-BC0A-825632F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BDB1-6656-4B91-B3D6-5C889CD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A417-6AE7-4EB3-BD87-F84798F9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9631-6519-49D4-AE37-99CC564F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81C-4184-4F99-802D-1D1C9787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133-DC2E-422C-A856-FD5E13F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229-D34C-4638-93AB-8FB9E530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48D-044F-4D95-9A3C-F2BBE41E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A1F-9A8C-44E0-A7EA-DA7F83C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709-6D2D-44AF-A0DF-C0990AA0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E60-7680-45EF-A503-2D1A19B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B4A1-C6CD-40C8-AFDA-E44525D6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B9F7-6559-400F-A8CC-A58F0EF186C0}" type="slidenum">
              <a: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387760"/>
            <a:ext cx="313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رسَلَ الل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سعةَ أشهرٍ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ملتْ مر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حامِلِ الأكو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م تَحُسَّ منهُ بثقلٍ لأنه إلهٌ وإنس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171360"/>
            <a:ext cx="5796000" cy="66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زادَها طُهراً ومكثت بتولاً تُدهِشُ الأذهان قبلَ الميلاد وفيهِ وبعدَه وما دامَ الزم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1125360"/>
            <a:ext cx="68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ن القبر شبهَ ضوء لاح لأنهُ اللطيف ذاتاً والبتول أشرف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صب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054160" y="47520"/>
            <a:ext cx="9765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Arial"/>
                <a:cs typeface="Akhbar MT"/>
              </a:rPr>
              <a:t>قد بَزَغَ منها كما خرج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ا بالأوجاع ولا حضو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وابل بل بالأفراح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د وضعَته في نصف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الليل والظلامُ انتزح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ال الحلول تصوَّر كاملاً وجسمُهُ ما ب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تحداً بالنف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دُهنٍ الف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سيحاً انمس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لحلولِ والخروج وسُكناه بأُمِهِ عجيباً اتض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لطبعُ ابتعد وبا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علُ الروح كم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فراح أوض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رسل الله ابنَهُ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نوراً للأُمَم واحتَجَب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شى مريمَ البتول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نها تجسّ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مجّدك يا مَن ظَهَرَ بأُم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إنساناً يدوم باتحادِ طَبعَينِ ومشيئت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445000"/>
            <a:ext cx="91440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ي وَحدَةِ الأقن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كَ ولوالدِكَ وللروح القد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5594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كرٌ محت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45000"/>
            <a:ext cx="9144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ثلاثةُ أقانيم إلهٌ واحد ليس بمقس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شرقَ نجمُهُ في حدودِ فارس كما قالَ بَلع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نارَ المَجُوس فحملوا إليهِ هدايا الإكر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جيباً قويّاً دعاهُ أشَعيا وعنهُ ترنَّ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أنه يحمِل على مَنكِبَيهِ سُلطانَه الع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قد كانَ كلمة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بل رعدَ أصوات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شبلَ لَيثٍ أعظ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3080" y="393840"/>
            <a:ext cx="8439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أضحى ساكت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حَمَلاً وديع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ي بطنِ مَريم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لَجَها غنيّاً مجيداً مهيباً قديراً ديّان واتّلَدَ منه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قيراً حق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ُتَّضِعاً مُه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هَبُ قُربَهُ ملائكةُ السما وعندنا قد بان ود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ليماً سهل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لتقا لبن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نس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55:24Z</dcterms:created>
  <dc:creator>Charbel Azar</dc:creator>
  <dc:description/>
  <dc:language>en-US</dc:language>
  <cp:lastModifiedBy>Charbel Azar</cp:lastModifiedBy>
  <dcterms:modified xsi:type="dcterms:W3CDTF">2002-12-16T11:07:39Z</dcterms:modified>
  <cp:revision>7</cp:revision>
  <dc:subject/>
  <dc:title>Slide 1</dc:title>
</cp:coreProperties>
</file>